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ED5-4768-4D78-A312-009A60DB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3D6-E4B3-46F9-B689-2D99BB53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584-CDC7-4724-9BF3-4885C785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17F-40DC-478D-8BC2-5605256B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8F7-FB0C-45FD-B30F-F818D3A2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D75A-1676-4925-ADA0-0515783E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86D-D2E1-48D1-8B05-2350AFE3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5CE-BCA0-4170-9F0D-31BAA0DE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B57F-43E2-4EFC-B974-F26EAD65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1D5-D8DB-4337-9384-149EC5C2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C7D8-C8C0-4BEB-947B-9A9B0A5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C65-2BA3-4537-9CED-FAEE6C36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244F-D95E-49A6-8451-BB990BDD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399" t="0" r="15601" b="0"/>
          <a:stretch/>
        </p:blipFill>
        <p:spPr>
          <a:xfrm>
            <a:off x="0" y="0"/>
            <a:ext cx="10159920" cy="762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560" y="2819160"/>
            <a:ext cx="100710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400" spc="-1" strike="noStrike">
                <a:solidFill>
                  <a:srgbClr val="000000"/>
                </a:solidFill>
                <a:latin typeface="DFKai-SB"/>
              </a:rPr>
              <a:t>Meine Ferien Nach Deutschland</a:t>
            </a:r>
            <a:endParaRPr b="0" lang="en-US" sz="9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022880" y="7009920"/>
            <a:ext cx="313668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onika Mitc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36200" y="68580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ine Ferien Coste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gzeug: $7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143.7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ail: $3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Vienna: $100.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tel im Düsseldorf: $414.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299280" y="40384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7960" y="57913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601992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$1754.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618" t="0" r="16191" b="0"/>
          <a:stretch/>
        </p:blipFill>
        <p:spPr>
          <a:xfrm>
            <a:off x="0" y="0"/>
            <a:ext cx="1015992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2031840" y="1752120"/>
            <a:ext cx="6477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508960" y="1828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8432280" y="18288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031480" y="1828800"/>
            <a:ext cx="63248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5680" y="571500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h fliege nach Düsseldorf. Denn, Ich farhe mit der Bahn ins Vienna. Ich bliebe in Vienna fur 1 Tag, denn Ich gehe nach Düsseldorf. Zuletzt, Ich fliege nach Chicago. (An die Karte, Vienna ist unter Düsseldor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000" y="326880"/>
            <a:ext cx="7726320" cy="1589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0720" y="1727280"/>
            <a:ext cx="490536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ch fliege nach Düsseldorf am der Flugzeug. Ich fliege in “Economy class”, es ist sehr billig. Ich fleige um 7:15 Nachmittag zu 8:25 dass Nacht. Meine Flug ist am Januar 21st und Ich fliege nach Chicago am Januar 26</a:t>
            </a:r>
            <a:r>
              <a:rPr b="0" lang="en-US" sz="27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. Ich verlasse Düsseldorf um 10:30 in der Morgen und Ich erhalte im Chicago um 3:30 Nachmit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92880" y="1512720"/>
            <a:ext cx="44244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93960" y="380520"/>
            <a:ext cx="4114800" cy="12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Düsseldorf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362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ufen on Konigsall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56080" y="1447920"/>
            <a:ext cx="3429000" cy="2590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3556080" cy="2667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3040" y="28954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R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1480" y="3352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46240" y="2590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70880" y="457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nstha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32440" y="1447920"/>
            <a:ext cx="332748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5308560" y="6781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rcRect l="11538" t="0" r="5772" b="0"/>
          <a:stretch/>
        </p:blipFill>
        <p:spPr>
          <a:xfrm>
            <a:off x="3556080" y="4038480"/>
            <a:ext cx="3276360" cy="2667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17840" y="7010280"/>
            <a:ext cx="19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mmuse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rcRect l="0" t="0" r="3648" b="0"/>
          <a:stretch/>
        </p:blipFill>
        <p:spPr>
          <a:xfrm>
            <a:off x="6807240" y="4038480"/>
            <a:ext cx="3352680" cy="2637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56680" y="914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70880" y="7010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eintu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432640" y="6705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2920" y="326880"/>
            <a:ext cx="2805120" cy="390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0560" y="4470480"/>
            <a:ext cx="40114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un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tnessra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die Stad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05280" y="406440"/>
            <a:ext cx="5194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ese Hotel ist im Düsseldorf. Ich bliebe hier fur 1 Ta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65560" y="2057400"/>
            <a:ext cx="362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3000" y="422280"/>
            <a:ext cx="611820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26880" y="3132000"/>
            <a:ext cx="7050240" cy="15256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2960" y="4343400"/>
            <a:ext cx="3355920" cy="303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55680" y="4952880"/>
            <a:ext cx="594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 ist  mein Eurail Pass. Es costet $315 und $17 fur “Pass Loss &amp; Theft Coverage”. Mit mein Pass, Ich kann an der Bahn farhe im Deutschland und Austria. An der Bahn, Ich gehe durch Amsetten. Amsetten is zwischen Düsseldorf und Vienn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6200" y="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DFKai-SB"/>
              </a:rPr>
              <a:t>Vienn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03040" y="18288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451560" y="1828800"/>
            <a:ext cx="3200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onbrunn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unsthistorisches Muse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rgarten Schonbru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vedere Pa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ter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phenspl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2920" y="254160"/>
            <a:ext cx="3323880" cy="3895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137120" y="254160"/>
            <a:ext cx="4340160" cy="533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84280" y="419112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i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e 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ffee und T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nse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203040"/>
            <a:ext cx="4152960" cy="478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978440" y="304920"/>
            <a:ext cx="4495680" cy="3911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84880" y="4724280"/>
            <a:ext cx="359568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nseh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ei der Bah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leph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Mitchell</cp:lastModifiedBy>
  <dcterms:modified xsi:type="dcterms:W3CDTF">2012-01-07T21:46:09Z</dcterms:modified>
  <cp:revision>4</cp:revision>
  <dc:subject/>
  <dc:title>PowerPoint Presentation</dc:title>
</cp:coreProperties>
</file>